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472-05B9-4CD7-974C-BB3E89E8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122-E381-4565-A646-E5FD17F5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8E8-037D-4394-A02C-E59A0DC4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8C2-E63B-4B13-AC20-8ACF04ED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3FC2-1A76-4560-B03D-D3C80783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8D7F-FDFD-4F90-9014-291DB3A1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6EE4-A294-4B3E-BB0E-6D52D202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2ED7-BAB8-456F-908C-3DD93859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1CED-CB64-42DD-9BEB-98C03523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0831-88A0-46CA-92F7-C7556DD6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5DC8-0180-411E-B0D8-9CAB905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06B-A0FC-4E84-8A62-94877DEE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B2E6-EFE2-40A6-9E17-4F7354D3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8C5C-B830-47DE-BAC5-6D9C25A4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5BD2-C9E5-4EE4-943D-F07289AD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A794-070F-4EA3-90D6-BC383E2B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D68F-19E8-41B9-A4A6-8808F987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99F49A-D528-427C-9BD4-76E6BD6D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3E0C4-6870-40B1-A753-3515A7E5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E1FC5-B9B4-4D79-86BC-A6E48FFD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3024B-4747-45A9-B273-1248BA25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60553-F357-432C-BB99-3FBB3863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0B2-C661-4E0A-9C3D-D1A4DA3F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77FCB-C636-46BE-9840-85D4E41B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7C8BE9-93FD-4C1C-8542-EDEA1B92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2F8FC-5E99-4512-83FD-3EC49D50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EE155-8A98-42DE-B699-C5C27795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F3657-006B-4E9D-959D-78AFC274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9B7E1-A6B7-4B58-B03F-0250273D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32D74C-2753-4C11-ADCF-C69005E1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C62BA-05B7-4CCF-92E9-CB6D6B9F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2F0F9-88A8-43E5-80DA-435555F0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C834B-5587-42C7-9AA8-CAA27070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612-3421-456B-95AB-62F61AC3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D764-CB73-4420-AEB8-14CE7651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38AA8-7814-4755-9D8C-7529FAE8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934C-EEF7-40A8-9878-4145F707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B485-3C81-4740-BE3B-ED975371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A3D81-0C19-49DE-BD9D-71D5067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57FB-898D-45F0-8DE2-111A265F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8405-6DEC-4BFF-9A0A-B3B13A8B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3D864-8A40-46A4-8815-031BD256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1602E-4CF6-4B32-A359-78EAFF37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A01-B51E-40D7-AB7B-C5688B44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48D-0BE1-42F4-887B-8789DEAA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FA6-E5B7-4879-9037-EB52FD86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4D8-528C-44CA-94A7-9F0F5C39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AB7-07E0-4D7C-8D21-BC8751F5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6D15-1EED-4F33-8516-3E7C218937F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77E0-CB26-4F67-8472-3F1EC78DCAC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5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325C-3F37-42B6-A882-A93953C2B9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0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6E83-B23C-4178-8768-9EAF0D3A1A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cus.org/files/images/STOCK%2520-%2520Russia.jpg&amp;imgrefurl=http://www.acus.org/new_atlanticist/russia-well-trade-missiles-defense-shield&amp;usg=__GJEnWrg1wEuMFg-X01NI32rJzP0=&amp;h=320&amp;w=400&amp;sz=20&amp;hl=en&amp;start=29&amp;zoom=1&amp;um=1&amp;itbs=1&amp;tbnid=pwzj4QCxnj_bYM:&amp;tbnh=99&amp;tbnw=124&amp;prev=/images%3Fq%3Drussia%26start%3D20%26um%3D1%26hl%3Den%26sa%3DN%26ndsp%3D20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990360" y="3200400"/>
            <a:ext cx="693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b3da"/>
                </a:solidFill>
                <a:latin typeface="Bradley Hand ITC"/>
              </a:rPr>
              <a:t>By: Jennifer Zou, Jason Xiao, and Magdalena Wierzbowski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cc00"/>
                </a:solidFill>
                <a:latin typeface="Harrington"/>
              </a:rPr>
              <a:t> </a:t>
            </a:r>
            <a:r>
              <a:rPr b="0" lang="en-US" sz="3600" spc="-1" strike="noStrike">
                <a:solidFill>
                  <a:srgbClr val="e57e3f"/>
                </a:solidFill>
                <a:latin typeface="Harrington"/>
              </a:rPr>
              <a:t>S.S Per.1 / Mr.Griffith / Rm.13 </a:t>
            </a:r>
            <a:r>
              <a:rPr b="0" lang="en-US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57200" y="533520"/>
            <a:ext cx="8077320" cy="23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What is Present Day Russia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993366"/>
                </a:solidFill>
                <a:latin typeface="Arial"/>
              </a:rPr>
              <a:t>Life Expectancy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ccff3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ccff33"/>
                </a:solidFill>
                <a:latin typeface="Arial"/>
              </a:rPr>
              <a:t>Here is a chart showing lowering rates of life expectancy in Russia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836640" y="2438280"/>
            <a:ext cx="70992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2120" y="272520"/>
            <a:ext cx="870120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818e"/>
                </a:solidFill>
                <a:latin typeface="Arial"/>
              </a:rPr>
              <a:t>          </a:t>
            </a:r>
            <a:r>
              <a:rPr b="0" lang="en-US" sz="4400" spc="-1" strike="noStrike">
                <a:solidFill>
                  <a:srgbClr val="45818e"/>
                </a:solidFill>
                <a:latin typeface="Arial"/>
              </a:rPr>
              <a:t>Russia's New Gover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2120" y="1646280"/>
            <a:ext cx="86997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d966"/>
                </a:solidFill>
                <a:latin typeface="Arial"/>
              </a:rPr>
              <a:t>Russia is still learning on how to act in their new gover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6b26b"/>
                </a:solidFill>
                <a:latin typeface="Arial"/>
              </a:rPr>
              <a:t>Before, the Russian leaders could do whatever they wa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6b26b"/>
                </a:solidFill>
                <a:latin typeface="Arial"/>
              </a:rPr>
              <a:t>They also got to punish any people who would criticize their desc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e06666"/>
                </a:solidFill>
                <a:latin typeface="Arial"/>
              </a:rPr>
              <a:t>Now the leaders must learn to follow the new law and the Russian goverment officials have to adjust to accepting disagreements over the goverment polici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22120" y="274680"/>
            <a:ext cx="8699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                  </a:t>
            </a:r>
            <a:r>
              <a:rPr b="1" lang="en-US" sz="44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22120" y="1646280"/>
            <a:ext cx="86997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134f5c"/>
                </a:solidFill>
                <a:latin typeface="Arial"/>
              </a:rPr>
              <a:t>Russia has many different ethnic groups.Some groups want to form their own countries seperate from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45f06"/>
                </a:solidFill>
                <a:latin typeface="Arial"/>
              </a:rPr>
              <a:t>One of these groups are the Chechens. They live in Chechnya close to the Caspian Sea in the southern part of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 Russian troops have fought the Chechen forces to still keep Chechnya a part of southern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2120" y="274680"/>
            <a:ext cx="8699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c5e8"/>
                </a:solidFill>
                <a:latin typeface="Arial"/>
              </a:rPr>
              <a:t>                  </a:t>
            </a:r>
            <a:r>
              <a:rPr b="1" lang="en-US" sz="44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1760" y="1279440"/>
            <a:ext cx="8701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b6d7a8"/>
                </a:solidFill>
                <a:latin typeface="Arial"/>
              </a:rPr>
              <a:t>Here is a map showing some different ethnic groups in Russia including Chechnya(Chechen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6d7a8"/>
                </a:solidFill>
                <a:latin typeface="Arial"/>
              </a:rPr>
              <a:t>               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6d7a8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1211400" y="2057400"/>
            <a:ext cx="5624280" cy="4632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61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Good Things About Present Russi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9966ff"/>
                </a:solidFill>
                <a:latin typeface="Arial"/>
              </a:rPr>
              <a:t>Russia has followed the United States in their government and economy style. Now they have adopted a free market economy and a democracy. People now in Russia can vote for their leader and put prices on products free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66ffcc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66ffcc"/>
                </a:solidFill>
                <a:latin typeface="Arial"/>
              </a:rPr>
              <a:t>Russia is starting their first suburbs around cities. This idea may give people more space, but still be close to citi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7162920" y="5433840"/>
            <a:ext cx="1523880" cy="14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Monotype Corsiva"/>
              </a:rPr>
              <a:t>Advanta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 is now a free market economy and a democrac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 has a better chance at winning a war because of its wint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ns get free health care and Russian made medicin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It has great food there, that is inexpensive like squid salad, crab meat sala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Jobs aren’t very hard to fin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You can have a very good time in Russia from movies, clubs, theaters, operas, concerts, exhibitions, festivals, and fair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             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Brought to you b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Magdalena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Jason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and Jennif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a4849"/>
                </a:solidFill>
                <a:latin typeface="Papyrus"/>
              </a:rPr>
              <a:t>Free Market Economy /Free Enterprise System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People can open busines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Chose their own care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Workers can lose their jobs when a business decli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Snap ITC"/>
              </a:rPr>
              <a:t>Governme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Prices have ris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Government built nuclear power plants which can cause disastrous consequences if uncontroll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Government no longer sets prices for foods or other goo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Federal republic/ democrac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Ravie"/>
              </a:rPr>
              <a:t>Government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Power is divided between national and state government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A President leads this na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Russian president can issue orders that become laws even if they aren’t passed by the legislatu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Officials have to learn how to accept disagreements over government politic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Wide Latin"/>
              </a:rPr>
              <a:t>Other Fact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</a:rPr>
              <a:t>Home to multiple different ethnic groups –some want to form their own, independent countries such as Chechny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</a:rPr>
              <a:t>About 75% of Russia’s people live in cit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</a:rPr>
              <a:t>Large number of people living in poverty have to wait in line for food by government agenc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</a:rPr>
              <a:t>Urban, or city, areas are large and modern with stone or concrete buildings &amp; wide streets</a:t>
            </a:r>
            <a:r>
              <a:rPr b="0" lang="en-US" sz="2800" spc="-1" strike="noStrike">
                <a:solidFill>
                  <a:srgbClr val="fe1f08"/>
                </a:solidFill>
                <a:latin typeface="Curlz MT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tencil"/>
              </a:rPr>
              <a:t>Facts continued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</a:rPr>
              <a:t>Pollution is made by dirty smoke and dumped pois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</a:rPr>
              <a:t>Air pollution  causes many people to suffer from lung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</a:rPr>
              <a:t>The life expectancy is shorter because of cance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</a:rPr>
              <a:t>90% of the people speak Russian languag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</a:rPr>
              <a:t>Many prosperous people live in Moscow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00"/>
                </a:solidFill>
                <a:latin typeface="Arial"/>
              </a:rPr>
              <a:t>Environmental Issues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Arial"/>
              </a:rPr>
              <a:t>Russia’s old communist government didn’t do much for the government. They gave out lots of dirty smoke and dumped poisons into rivers and lak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66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They also polluted the air, water, and land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Arial"/>
              </a:rPr>
              <a:t>Now Russia is using nuclear energy plants. Even though they don’t pollute the air, they leave dangerous by-product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4" dur="2000" fill="hold"/>
                                        <p:tgtEl>
                                          <p:spTgt spid="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6" dur="20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8" dur="20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90" dur="20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66ff"/>
                </a:solidFill>
                <a:latin typeface="Arial"/>
              </a:rPr>
              <a:t>Environmental Issues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383b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9383b3"/>
                </a:solidFill>
                <a:latin typeface="Arial"/>
              </a:rPr>
              <a:t>Here are some pictures showing these environmental problems in Russi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0080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ese are factories giv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ut gas (right). And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left) are nuclear power pla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4379760" y="3086280"/>
            <a:ext cx="4764240" cy="317340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27672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6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6699"/>
                </a:solidFill>
                <a:latin typeface="Arial"/>
              </a:rPr>
              <a:t>Life Expectancy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ssia' old economy polluted the air making it less healthy. Russia’s air pollution also has caused rising cancer and falling life expectancy in the count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Now most people are suffering from lung diseases. This shows that Russia’s population is becoming less healt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tal population: 66.39 year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le: 59.91 year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male: 73.27 years (2004 est.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0:35Z</dcterms:created>
  <dc:creator> </dc:creator>
  <dc:description/>
  <dc:language>en-US</dc:language>
  <cp:lastModifiedBy> </cp:lastModifiedBy>
  <dcterms:modified xsi:type="dcterms:W3CDTF">2010-12-20T18:38:57Z</dcterms:modified>
  <cp:revision>12</cp:revision>
  <dc:subject/>
  <dc:title>Present Day Russia</dc:title>
</cp:coreProperties>
</file>